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29B5F-9824-43E9-8A25-C800EFF9FB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12BDF-2034-4043-B7DB-47D64CDB5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F4604-E603-4930-BC08-22EEDC49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1E955-0BAE-450D-A30C-7588BA15D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16FDB-4606-43C0-A093-B8B6E3203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06D65-B3AB-41EE-AE30-36522F681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B299C-4A9C-475D-A39B-692FC7ECA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C977C-408B-4349-88EE-A7D6808BB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22E97-52D1-417C-A13B-7C857383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A3863-7E4F-44E9-BA21-BD9EF1A6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EFB4A-8EEC-4EE1-B5E2-E4D76DBC4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945EC-2AEF-4ED3-BDE4-4ED900D0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8F547-F9CA-4DA6-94CF-7B162A918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594C0-DBAD-41B5-AC02-8B996A27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D0783-A9FA-4179-A4BB-10218A8F6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1C8A5-4FC8-4077-A008-61B72B08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B4385-BB0E-4BD0-A06D-FD98A1D9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552A5-91DD-48C2-8220-EF30A9CA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58D6F-80FC-4C51-BFB8-65EA9433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ED4B3-563A-40A1-8191-A6E39B2E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351-B59A-4844-8E78-9A7F7F66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A44-EE65-4060-A4E1-56C26F19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541-1078-4287-8B36-A6935423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C86-ECA0-48F8-A5D9-C0061D47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242-638D-49F1-BB9D-3EADEC2C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2AD-38C3-4B3F-BDE1-AC0774E5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A6C-71EE-49EF-9DEF-4CE06EB2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584-7853-4C2B-AF75-929D22B1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D3D-AE8D-4B2E-A324-53AAF149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7A7-459D-487A-812C-C5FF251D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3ED-25A8-4A70-8609-A71780CF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CA6-705C-420C-AE65-8D5E65F2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B7024-4225-4862-AC11-F98B6500DC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C285C-D397-42FC-866F-A0F92572C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371600" y="60948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i="1" lang="he-I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i="1" lang="he-IL" sz="2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41200" y="117360"/>
            <a:ext cx="66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שם:_____________________________                                          תאריך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:________________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כיתה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: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16000" y="3084480"/>
            <a:ext cx="687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This first semester Final is divided into 5 subtest categ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1- Listening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 there are 4 listening epis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2- Reading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 there are 4 reading passages – Hebrew 2X have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3- Culture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 this subtest category appears in various s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4- Grammar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there are 25 grammar ques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5- Vocabulary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( there are 25 vocabulary questions</a:t>
            </a:r>
            <a:r>
              <a:rPr b="0" lang="en-US" sz="16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774720" y="1611360"/>
            <a:ext cx="53211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ritannic Bold"/>
              </a:rPr>
              <a:t>Hebrew 2 and 2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Review for the Final Semes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Lessons 5 through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2057400" y="-15228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76320" y="131760"/>
            <a:ext cx="7010280" cy="10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In this semester we covered the following grammar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1- </a:t>
            </a: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Infinitives</a:t>
            </a: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lessons: 5, 6, 7, 8, 9, and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2- Infinitive Verb Combination (helping verb+ Infinitiv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3- Adverbs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4- Something/Somebody    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5- Causal clauses with: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י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  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-------   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6- Numbers 20-100    ------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7- Time    --------      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7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8- A definite singular noun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ל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9- Object clauses with questions words    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0- Gender and number agreement in nominal cla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1- Negative clauses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שום דבר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    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--------   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2- Feminine cardinal numbers 11-20   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3- Age   ------   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1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4- plural definite noun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ל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5- Singular and Plural indefinite construct state    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6- Masculine cardinal numbers 11-20   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228600" y="725400"/>
            <a:ext cx="632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answer.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774720" y="1152360"/>
            <a:ext cx="577836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נה, אָת _______ אֶת מאיה, החברה של יוס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ומד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וש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כיר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וד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איר לא בא לבית ספר היום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א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 לא טו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מרגיש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מרגישה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ל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לכ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המורָה _______________ את החומר 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aterial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דבר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דב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סביר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סבי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4-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לומ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__    _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בוק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התחיל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תחיל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הזמי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מזמין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למו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ומ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שומ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שמוע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228600" y="725400"/>
            <a:ext cx="632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answer.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95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774720" y="1152360"/>
            <a:ext cx="577836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כל,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ת רוצה __________   איתי לבית ספר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בו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עבו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שי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שמו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אירה __________  תה חם, גם יעל צריכה _____________תה ח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מרגיש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/להרגיש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שותה/לשת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אוכל/לאכו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ומד/ללמו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ולה ויוסי לא אוהבים ______________ מוקדם בבוקר ביום שב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רד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רוד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קו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מ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9-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יים לא רוצ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בירושלים,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א רוצה ________ בתל-אביב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ג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גו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קום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ג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קו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לגור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28600" y="72540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answer.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774720" y="1152360"/>
            <a:ext cx="577836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נה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יא ילדה 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ָ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ֶ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פחת כהן רוצים לקנות בית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ד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דש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דש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דש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ר. חזן, אתה איש מאוד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ז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זק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ור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ור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4-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ירה ונתלי, אתן מאו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ש לכן שיער________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מבינ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מבינים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כ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                 ד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חכמות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28600" y="725400"/>
            <a:ext cx="6629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l in the blanks with the correct answer.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774720" y="1152360"/>
            <a:ext cx="577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א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 השלימו את שם הפועל הנכון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omplete the sentences with the correct infinitive 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א:  יורם גר באשקלון, אבל הוא רוצה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לגור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תל אביב.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דינ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דבר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גלית, אבל היא צריכה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עברי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הרו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כות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הרבה.  הוא אוהב _____________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יוסי ורמי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א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עובדים יפה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ביחד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הם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צריכ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איה,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למי את רוצ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________ מכתב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שלומי ויוסי,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תם שרים יפה. אתם אוהבים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28600" y="5105520"/>
            <a:ext cx="6324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ב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השלימו את תואר  הפועל  הנכון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omplete the sentences with the correct ad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א: הם אוכלים אוכל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טוב במסעד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הן הולכות    _______________ לבית הכנסת, כי הן מאחרות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רינ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כותבת_________, כי אין לה זמ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י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עובד  ____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נה שר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ב______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, כי אח שלה יש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אי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וכלת   ______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כי יש לה זמן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057400" y="-1522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57200" y="609480"/>
            <a:ext cx="609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השלימו את המשפטים הבאי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omplete the following sent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א: יש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מישהו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בית?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ע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מי מדבר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רנ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?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ע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יש שם    ____________? כן, אני פ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מ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וו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מר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ך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?  היא אמרה ____________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ש_________________ בקופס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ישהו/משהו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228600" y="4151160"/>
            <a:ext cx="63244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ד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מה המספר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כתבו את המספרים הבאים בעיברי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rite the following numbers in Hebr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.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73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.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 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 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2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9 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  .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80880" y="762120"/>
            <a:ext cx="61722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ה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השלימו את החסר העזרו בדוגמ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Fill in the bla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חנה ומשה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רוצים  לנסוע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לירושל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מא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    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חנה מתנה ליום ההולד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זי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________     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ור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יעל     _________   ___________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פ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חנ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   _______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ציון טוב במבח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ו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השלימו את החסר השתמשו בפועל "ידע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Fill i the blank. (use the verb "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יד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הם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יודע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מ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הם רוצים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אנחנו     _________ 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_________ יש לאמירה יום הולד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סליחה, את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   ______זה עול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רונ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_________   ___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-76320" y="762120"/>
            <a:ext cx="6858000" cy="14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ז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השלימו את המשפטים הבאים</a:t>
            </a: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השתמשו ב כל + הזמן / השנה / הערב / הבוקר/ היום / השבוע /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שולה עובדת בחנות משמונה בבוקר עד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בצהריים. היא עובדת שם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כל היו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ירון וטל עובדים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נוא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עד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דצמב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הם עובדים __________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מאירה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ונתלי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עוש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את שיעורי הבית מ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מש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בצהריים עד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בליל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ה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עוש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את שיעורי הבית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דני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חק במחשב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מהבוקר עד הערב. הוא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ח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הם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מקסיק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ום ראשון עד יום שבת. ה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מקסיק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טליה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רוקדת בבוקר, בערב, ביום שבת, ביום ראשון, בחופש ולא בחופ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יא רוקדת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ח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 סמיכו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כתבו במשפטים את הסמיכות המתאימ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se the correct construct states to complete th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הסלטים טובים מאוד. תן לי בבקשה עוד קצת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סלט טונ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ש תפוחי אדמה ויש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__________  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. בישראל יש הרבה ______  _______. הרבה אנשים מתפללים ש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ב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יקגו יש הרבה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____  _________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ו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יש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ם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הרבה אנשים חול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י לא רוצ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___________ _________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ני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דיאט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8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מורן שולחת את החבילה לישראל ב________  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0" y="685800"/>
            <a:ext cx="685800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2400" spc="-1" strike="noStrike" baseline="30000">
                <a:solidFill>
                  <a:srgbClr val="000000"/>
                </a:solidFill>
                <a:latin typeface="Arial"/>
              </a:rPr>
              <a:t>ט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מספרים בזכר ובנקבה: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תרגמו את המשפטים הבאים לעברי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- Translate the following to English, remember the masculine and the feminine numbers. Follow the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דוגמה: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hones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-              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ארבעה עשר טלפונ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otel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letter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en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  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fax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  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ost card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ottl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packag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ell phon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  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omato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   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languag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 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Vocabular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28600" y="99072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is a list of some words you might see on the final. If you do not know these words please take the time to translate them and learn them for the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505320" y="1820880"/>
            <a:ext cx="3047760" cy="169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י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יסטוריה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עתיק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טבע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ודרני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צליח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לי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חשב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עיתונאי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הור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קומות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וחד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ג'וגיניג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חרי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נהדר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וחדת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ריחו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57200" y="1828800"/>
            <a:ext cx="3048120" cy="22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סדו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והל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פתאו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לון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עיינות מ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ינרל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כחול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וגע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ספיק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מיי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רוחה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טבע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ום דבר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טיול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תייר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ריא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קניון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רגיש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שעמם-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447920" y="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Listening Comprehens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04920" y="954000"/>
            <a:ext cx="6019560" cy="9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7 Listening (203- 4:30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en to the passage and answer questions 1-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she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 She knows who is w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 She knows where Spinoza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- She know who Spinoza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he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 He knows what he w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 He knows what she w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- He knows what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n’t he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 He doesn’t know why there are problems in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 He doesn’t know what problems there are in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- He doesn’t know why there are a lot of problems in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e know 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 who we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 who they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- who you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276720" y="954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יודע או לא יודע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Vocabular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0" y="762120"/>
            <a:ext cx="6858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word to make a meaningful sentence Questions 96 -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1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774720" y="609480"/>
            <a:ext cx="577836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- כמה זה 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-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שלושים וחמיש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שקלים. איך אתה רוצה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-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מזומ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לשלם / עול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עולה  / לשל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 עולים / משלמ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9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זיו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אוהב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____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ציונ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grades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( טובי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לטייל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לשל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לקב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9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פז אוכלת רק אוכל _______________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יפ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גדול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כשר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מסעדה עובדים הרבה________________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לונות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קפה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מלצרי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ב______________ של אביבה יש הרבה פרחי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א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אחרו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ב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 גן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ג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</a:rPr>
              <a:t>חוד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2057400" y="363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Vocabular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0" y="762120"/>
            <a:ext cx="685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the correct translation Questions 101 -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774720" y="609480"/>
            <a:ext cx="577836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  <a:cs typeface="Arial"/>
              </a:rPr>
              <a:t>שאל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,  answ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.  ex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.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  <a:cs typeface="Arial"/>
              </a:rPr>
              <a:t>טיו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,   hik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.  deser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.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  <a:cs typeface="Arial"/>
              </a:rPr>
              <a:t>תיי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, tourist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. boring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. post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400" spc="-1" strike="noStrike" baseline="30000">
                <a:solidFill>
                  <a:srgbClr val="000000"/>
                </a:solidFill>
                <a:latin typeface="Arial"/>
                <a:cs typeface="Arial"/>
              </a:rPr>
              <a:t>מרגי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,  invit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.  fee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. sto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447920" y="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Listening Comprehens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04920" y="954000"/>
            <a:ext cx="6019560" cy="9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(2</a:t>
            </a: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23- 0:2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en to the passage and answer questions 5-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לאן נוסע יוסף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נוסע לג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נוסע לעבוד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נוסע לתל אבי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בתל אביב אין גינות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נכון               ב- לא נכו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איך יוסף מחפש עבודה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בעיתו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הוא מדבר עם אנשי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במודיעי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איפה יורד יוסף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יורד בחשו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יורד במודיעי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</a:rPr>
              <a:t>יוסף יורד בהצלח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971800" y="954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באוטובוס מתל-אביב למודיעי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447920" y="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Reading Comprehens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04920" y="768240"/>
            <a:ext cx="57909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the passage below and answer questions 9-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0" y="1066680"/>
            <a:ext cx="6629400" cy="84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במסעד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ערב טו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ערב טו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דני:   אפשר לקבל תפריט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כן, בבקשה, הנה התפריט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תם רוצים להזמי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נה:   כן, אנחנו רוצים להזמי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כן, מה אתם מזמיני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נה:   בשבילי מרק ירקות וסטייק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אני מצטער, אין לנו סטייק, אבל יש לנו שניצל מצויי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נה:   בסדר, תן לי בבקשה שניצל ואורז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אנחנו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רוצים להזמין סלטים ופית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משהו לשת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דני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כן, תן לנו בבקשה מיץ תפוזים ומיץ אשכולי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בסדר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דני:   סליחה, אני יכול לקבל גם כוס מים בבקש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כמוב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ה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האוכל והשתייה שלכם. בתאבו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תודה רב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דני:   מלצר!  אפשר לקבל חשבון בבקש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כמובן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תודה רבה לךָ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 תודה רבה גם לכ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ברים:   להתרא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לצר:   יום טו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6320" y="457200"/>
            <a:ext cx="66294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9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החברים אוכלים במלו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נכון        ב. לא נכ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י אלה החברי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חנה מזמי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סטייק ואור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. סטייק ושניצ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ג. סטייק ומרק ירק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י מזמין סלטים ופית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חנ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. מלצ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ג. חנה ודנ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כתוב "אנחנו" למי הכוונה ?  / מי זה "אנחנו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"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ה רוצים החברים לשתות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כתוב "הנה".  מה זה "ה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"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28600" y="457200"/>
            <a:ext cx="647712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6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מה חנה לא אוכלת בסוף מרק עוף וסטייק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המלצר אומר: "כמובן!" מה זה "כמוב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"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המסעדה החברים הולכים לבית של דני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נכון        ב. לא נכ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ne 6 and 7 we see a verb 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הזמי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verb mean?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nfinitives are there in the entire passage?    .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list and translate all of them.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447920" y="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Reading Comprehens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304920" y="768240"/>
            <a:ext cx="601956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the passage below and answer questions 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e-IL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0" y="10717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ולנו יש פלאפל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ה אוכלים בישראל? בישראל אוכלים הכול: חומוס, טחינה, צ'יפס, שניצל פיצה, המבורגר, סטייק, אוכל סיני, דגים ועו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בל...!!! יש 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לנו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אכל אחד ומיוחד, מאכל לאומי, והוא-ה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וכרים את הפלאפל בכל מקום. שמים בתוך הפיתה כדורי פלאפל, סלט ירקות, חמוצים והרבה הרבה טחינה, ו</a:t>
            </a:r>
            <a:r>
              <a:rPr b="0" lang="he-IL" sz="1800" spc="-1" strike="noStrike" u="sng">
                <a:solidFill>
                  <a:srgbClr val="000000"/>
                </a:solidFill>
                <a:uFillTx/>
                <a:latin typeface="Arial"/>
              </a:rPr>
              <a:t>ז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טעים מאו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ואפילו כתבו שיר על פלאפל. דן אלמגור כתב את המילים, ומשה וילנסקי חיבר את הלחן. השיר היה בעבר פופולארי כמו ה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52280" y="3795840"/>
            <a:ext cx="6629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1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ישראל אוכלים  גבינה וסלטים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נכון        ב. לא נכ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2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ישראל יש מאכל לאומי אח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. נכון        ב. לא נכו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3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איפה שמים את ה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4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עם מה אוכלים את ה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למה כתבו שיר על 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28600" y="533520"/>
            <a:ext cx="66294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6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שלוש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3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כתוב "לנו"  מי זה לנו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7.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חמש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5(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כתוב "זה"  למה הכוו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י כתב שיר על פלאפל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בשורה שבע כתוב "פופולארי." למה הכו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. Can you find  constructed state in the passa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 please list them be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774720" y="0"/>
            <a:ext cx="532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עברית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ו 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חזרה למבחן ראשי סמסטר 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e-IL" sz="1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שיעורים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עד 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he-IL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057400" y="-15228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Grammar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76320" y="131760"/>
            <a:ext cx="7010280" cy="10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In this semester we covered the following grammar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1- </a:t>
            </a: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Infinitives</a:t>
            </a: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lessons: 5, 6, 7, 8, 9, and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2- Infinitive Verb Combination (helping verb+ Infinitiv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3- Ad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4- Something/Some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5- Causal clauses with: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י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6- Numbers 20-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7-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7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8- A definite singular noun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ל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9- Object clauses with questions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0- Gender and number agreement in nominal cla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1- Negative clauses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שום דבר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9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2- Feminine cardinal numbers 11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3- 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1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4- plural definite noun + “ </a:t>
            </a:r>
            <a:r>
              <a:rPr b="0" lang="he-IL" sz="1600" spc="-1" strike="noStrike">
                <a:solidFill>
                  <a:srgbClr val="800000"/>
                </a:solidFill>
                <a:latin typeface="Comic Sans MS"/>
              </a:rPr>
              <a:t>כל</a:t>
            </a: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 u="sng">
                <a:solidFill>
                  <a:srgbClr val="800000"/>
                </a:solidFill>
                <a:uFillTx/>
                <a:latin typeface="Comic Sans MS"/>
              </a:rPr>
              <a:t>Lesson 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5- Singular and Plural indefinite construct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omic Sans MS"/>
              </a:rPr>
              <a:t>16- Masculine cardinal numbers 11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22:39:23Z</dcterms:created>
  <dc:creator>ssheinfe</dc:creator>
  <dc:description/>
  <dc:language>en-US</dc:language>
  <cp:lastModifiedBy>aschlezinger</cp:lastModifiedBy>
  <dcterms:modified xsi:type="dcterms:W3CDTF">2010-04-12T17:30:20Z</dcterms:modified>
  <cp:revision>65</cp:revision>
  <dc:subject/>
  <dc:title>Slide 1</dc:title>
</cp:coreProperties>
</file>